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07A2-8088-4C36-8E84-0FDEA3C1806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C2A6-BEB2-4CB3-8CD1-50C7B6F1C7A4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315B-77C8-4E2C-9800-F310A610344B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923B-FB53-4DC8-BB16-2FB3821F4A91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2A0A-0806-4D5C-AEB0-88864A99EB1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50BD-8741-4500-BFD2-F23695E6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9F8-13FF-4615-9E1F-A27A0484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F1C-E5A8-4DA0-8D0B-17B0533D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5668-803C-488F-98A2-4F446D83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8509-D896-4C6C-B4B4-6B5427F0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88DC-2365-4934-B620-90888550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DA89-9F00-48B6-82CE-2B6E2098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75B0-D1E8-457C-AE02-176B1ABB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A067-FF92-48AC-87C8-2740B68F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3E22-5AEA-4196-9A91-25ACB430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5AC9-5415-46FA-9435-FE38E2E9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E60-F156-43B8-9BA3-1026A021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0912-4F50-4418-9F97-4A707EA7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BC59-1CBD-4895-BCBE-1A6CA09A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C3CC-CB51-429C-BCBF-034F910D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B821-CE28-42C8-B493-3A176B81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1D44-97CB-4F13-82E2-44B1F0B6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68A3-268B-4318-A5AE-E5C7A03C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054-5E9E-42DE-9FDF-555ACC8F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7A5-D438-4133-B741-DF9AB5E5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266-4983-4C4D-845F-E169C1D5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996-335A-4F74-AB64-889C5523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34AB-4108-4298-BD5F-FFB01B9C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ED44-0A44-432C-A635-67FA3369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A2BC-355A-4FC2-A1FA-68EED9D65B7F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6C64-FE4C-4176-A20F-949782749A38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eed.hu/cikkek/gyik#Slide 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ép 3" descr="doctor-main_Full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69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929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Egyéni</a:t>
            </a:r>
            <a:br>
              <a:rPr sz="4400"/>
            </a:b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vállalkozásu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00720" y="4071600"/>
            <a:ext cx="42717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minis b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óró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lakát (főleg egészségügyi intézményekb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i dí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rcul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loge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ok megszer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logen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még nem reklamált senk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a beteg az első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ékony gyógyítás a legmodernebb eszközökk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venkénti ingyenes szűrés állandó ügyfeleinkn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iztosí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lelősség 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ővítési lehető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öbb orvos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itkárn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poló, ápolónő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yógytornász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agnosztika (tőkeigény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Ati\Asztal\tarstori\orvos_640.jpg"/>
          <p:cNvPicPr/>
          <p:nvPr/>
        </p:nvPicPr>
        <p:blipFill>
          <a:blip r:embed="rId2"/>
          <a:stretch/>
        </p:blipFill>
        <p:spPr>
          <a:xfrm>
            <a:off x="714240" y="2071800"/>
            <a:ext cx="7712280" cy="3976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Forrás(ok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seed.hu/cikkek/gyik#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magyarorszag.hu/vallalkozas/ugyek/vallalkmuk/engedelyvallalk/uzlmukeng20090319.html/ugyleirasjog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fhb.hu/vallalatok/szamla_megtakaritas/vallalati_bankszamla_csomagok/vallalati_bankszamla_csomag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interport.hu/Cegalapitas/Cegalapitas-Modositas-Kft-Bt-alapitas-onlin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ceghmester.hu/index.php?mode=menu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antsz.hu/baranya/ugyfel/kerelemmintak/Engelj.p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Prof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rvosi vállalkozásunk egy egészségügyi szolgáltató  betéti társaság. Többféle szolgáltatást nyújtunk. Orvosaink a szakma elismert képviselői. Korszerű eszközökkel dolgozunk, az Európai Uniós normáknak megfelelően. Már bizonyítottan eredményes új eljárásokat is alkalmazu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evékenységi területe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áró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kvő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kta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szettudományi kutatás és fejlesz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Szükséges személyi minimál feltétele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ét orvosi diplomával és megfelelő tapasztalattal,  referenciákkal rendelkező személy (a kapcsolati tőke előnyt jel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Ügyvé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engedély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égnyilvántar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NT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ankszám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rsaság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anyagi feltétel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dulótő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Működési engedély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0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z eljárási illeték összege 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5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Eljárási díj telephelyenként (ÁNTSZ-nek fizetendő, új és módosított engedély esetében egyaránt)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7.400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Cégalapítás, Bt alapítás, Kft alapí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39.000,- Ft + Áfa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[ az ár tartalmazza az aláírási címpéldányokat] + illeték és közzétételi díj [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0.000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] –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Bankszámlanyi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0 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 minimális indulótőke összesen: kb 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330.000 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(2fős bt. esetén)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Egyéb költ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rk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ítógépes rendszer az adatok nyilvántartás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3:11:57Z</dcterms:created>
  <dc:creator>Petr Widimský</dc:creator>
  <dc:description/>
  <dc:language>en-US</dc:language>
  <cp:lastModifiedBy>Jakab</cp:lastModifiedBy>
  <dcterms:modified xsi:type="dcterms:W3CDTF">2010-07-05T21:43:53Z</dcterms:modified>
  <cp:revision>109</cp:revision>
  <dc:subject/>
  <dc:title>METAANALYSIS OF THE PRAGUE 1 + 2 STUDIES</dc:title>
</cp:coreProperties>
</file>