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FEB98-FE25-44A4-9BF5-EC10516C9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E5EB9-A5EF-4BF8-8718-41EC0E9B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8B2DD-2B4B-40CB-B946-835E9FA1D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A4DE5-567E-4628-BBD8-80C4A6CA9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74E4-F513-4806-9A80-C884EFB45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A4A2-DEB8-4648-803E-42F74F03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1B28-80FE-42B7-B7BB-70718872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7CEA-8E61-4FCA-90F4-76A664A5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5121-4494-4960-B194-DDDD11A9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7689-AA71-4381-9E01-F02C49F2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89B2-2486-4F0D-9B23-8F79BDC0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15853-FD8D-4EA6-A6B2-6C767CAD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4C06-2093-445D-BDD5-369687AA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47D5-4D92-45A2-A90A-D408D249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3ACE-7D19-405E-B8C8-95EF2752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43A1-A77F-4FC5-BF58-FD172429B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EF65-C542-4F63-B680-A375BDDA3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28006-A25A-4A54-894B-7CD5B3AA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ECD1C-A98E-45CE-B9AF-A39258E4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4FF41-7049-4B5F-87F2-4A48B93F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89321-13D4-456C-A1CD-7207CA86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46163-013F-4196-9BEC-3DE12C77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EE15E-F421-47B6-B287-C24BB4ED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50B0B-FBDE-4357-A5BC-D8E605F1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7f3f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B459-FC2B-4ED9-94BE-22C203358DBF}" type="slidenum">
              <a:rPr b="0" lang="en-US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050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8565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a6362"/>
                </a:gs>
                <a:gs pos="100000">
                  <a:srgbClr val="7453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Calibri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050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8565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a6362"/>
                </a:gs>
                <a:gs pos="100000">
                  <a:srgbClr val="7453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Calibri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Calibri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7f3f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531F-2530-4827-96D2-526D86A3CB69}" type="slidenum">
              <a:rPr b="0" lang="en-US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jfifo.uw.hu/vendegl.doc" TargetMode="External"/><Relationship Id="rId2" Type="http://schemas.openxmlformats.org/officeDocument/2006/relationships/hyperlink" Target="http://vallalkozokedv.webkatalogus.com/v_formak.html" TargetMode="External"/><Relationship Id="rId3" Type="http://schemas.openxmlformats.org/officeDocument/2006/relationships/hyperlink" Target="http://vallalkozokedv.webkatalogus.com/v_formak.html" TargetMode="External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Egyéni vállalkozás: </a:t>
            </a:r>
            <a:br>
              <a:rPr sz="4400"/>
            </a:b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hagyományos étterem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484360" y="2133720"/>
            <a:ext cx="4038840" cy="35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Terjeszkedési lehetősége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7f3f3"/>
                </a:solidFill>
                <a:latin typeface="Garamond"/>
              </a:rPr>
              <a:t>a főváros különböző belső kerületeibe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7f3f3"/>
                </a:solidFill>
                <a:latin typeface="Garamond"/>
              </a:rPr>
              <a:t>vidéki nagyvárosokba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16360" y="1700280"/>
            <a:ext cx="3638520" cy="24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d8c1ba"/>
                </a:solidFill>
                <a:latin typeface="Garamond"/>
              </a:rPr>
              <a:t>Irodalomjegyzé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570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hjfifo.uw.hu/vendegl.doc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http://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vallalkozokedv.webkatalogus.com/v_formak.html</a:t>
            </a: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2000" y="5229360"/>
            <a:ext cx="403236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7f3f3"/>
                </a:solidFill>
                <a:latin typeface="Garamond"/>
              </a:rPr>
              <a:t>Készítette: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7f3f3"/>
                </a:solidFill>
                <a:latin typeface="Garamond"/>
              </a:rPr>
              <a:t>Palotai Tímea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7f3f3"/>
                </a:solidFill>
                <a:latin typeface="Garamond"/>
              </a:rPr>
              <a:t>Barakka Patrícia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9.11.01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Szükséges dolgozó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üzletvezető (vendéglátó-ipari végzettséggel)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könyvelő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pincér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szakács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159520" y="1600200"/>
            <a:ext cx="30146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Kft. Indítási költségei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Törzstőke: minimum 3.000.000,- Ft, ennek minimum a 30 %-nak, de  legalább 1.000.000,- forintnak készpénznek kell lennie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Egy tag törzsbetéte 100.000,- Ft-nál kevesebb nem lehet, s a forintban kifejezendő törzsbetét tízezerrel maradéktalanul osztható legyen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Közzétételi díj 20.000,- Ft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Illeték 80.000,- Ft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Aláírási címpéldány min, 5 db 2.000,- Ft/db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Ügyvédi díj: ügyvédtől függő, kb. 100.000,- 120.000 Ft.</a:t>
            </a:r>
            <a:br>
              <a:rPr sz="2000"/>
            </a:br>
            <a:r>
              <a:rPr b="0" lang="en-US" sz="20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Engedélye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ÁNTSZ engedély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tűzvédelmi hatóságok hozzájárulása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jövedéki engedély alkohol és dohányárura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működési engedély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közterületi árusítási engedély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Bejelentési kötelezettsége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2876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szeszes ital forgalmazásának bejelentése a rendőrségen 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a zene/műsorszolgáltatás bejelentése a rendőrségen, helyi jegyzőnél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az üzlet osztályba sorolás</a:t>
            </a:r>
            <a:r>
              <a:rPr b="0" lang="en-US" sz="2400" spc="-1" strike="noStrike">
                <a:solidFill>
                  <a:srgbClr val="f7f3f3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 a helyi jegyzőnél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I. osztályba sorolás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elkülönített fogadótér a bejárattó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a vendégekkel érintkező dolgozók formaruhát viselnek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a vezető és a konyhafőnök szakképzett és 5 év szakmai gyakorlata van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a fellépő művészek A típusú igazolvánnyal rendelkeznek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égfelirat készítése 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név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üzlettípus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ulajdonos neve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vállalkozás formája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Arcul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dohányzó és nemdohányzó helyiség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barátságos légkör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kerthelyiség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00720" y="1844640"/>
            <a:ext cx="4032000" cy="26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8c1ba"/>
                </a:solidFill>
                <a:latin typeface="Garamond"/>
              </a:rPr>
              <a:t>Elhelyezkedés</a:t>
            </a:r>
            <a:br>
              <a:rPr sz="4000"/>
            </a:b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fővárosban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közel a központhoz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forgalmas helyen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788000" y="1341360"/>
            <a:ext cx="3327480" cy="3807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08:27:06Z</dcterms:created>
  <dc:creator>Pekár Mihály</dc:creator>
  <dc:description/>
  <dc:language>en-US</dc:language>
  <cp:lastModifiedBy>Jakab</cp:lastModifiedBy>
  <dcterms:modified xsi:type="dcterms:W3CDTF">2010-07-05T21:45:20Z</dcterms:modified>
  <cp:revision>6</cp:revision>
  <dc:subject/>
  <dc:title>Egyéni vállalkozás: hagyományos étterem</dc:title>
</cp:coreProperties>
</file>