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6C95-E9AC-4969-8564-5B7E03CFE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CA09-3395-43BD-A847-102BF51A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8BAC-D838-45CF-9C7E-B15946A31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7B8A-F4F9-4162-8338-4015C015D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4C3B-BF6F-4D60-B121-762E566E4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E815-2514-4034-A927-BC034AA9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216B-AA1A-49A2-92C3-0DC75BB2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84B1-B022-457B-97AC-482A7847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8C93-85EE-4982-933C-87891735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4229-FD21-4B7E-82F6-AAA7FC2E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6663-7C0C-4EC3-8CA0-499F47C8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62C3-7CE6-4CBE-908D-E0E9575C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79FF-80FC-40FC-9A8F-F3A1C262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B5B1-4A79-45DD-8B5D-A63EB452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B24C-1BD4-4C38-AA36-E5594F59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F934-9E9E-4BEB-9571-C38F4DC25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CACD-990F-43FB-98C1-0C2CFFABC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BFDE-90A2-403F-A2DC-5F58962C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A56A-BCCA-4B0F-BBE2-D784BAFA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4340-0A00-4934-B7B8-6AC8801D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F7E6-92D1-4510-B471-8CC94D77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5578-3A03-4607-887F-31FC3A00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827E-1AC0-4D38-8241-02922415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3D3C-6E02-4AD9-829C-2E3E62EE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E254-4BD4-45EC-97F1-EE5640BDAB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4650-5956-4D6B-9DF3-6C94AE528D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87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Arial Black"/>
              </a:rPr>
              <a:t>Bevezetés a pszichológiába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ársadalomismeret Epo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9/20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A kötődés – Harlow kísérle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590544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619280" y="0"/>
            <a:ext cx="543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Interiorizáció vs. behódolás: Milgram kísérlete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411280" y="1484280"/>
            <a:ext cx="42372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 pszichológia „hőskora”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4000" y="6210000"/>
            <a:ext cx="3313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Wilhelm Wund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3141720" cy="4869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145120" y="1268280"/>
            <a:ext cx="3713040" cy="4897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148360" y="6210360"/>
            <a:ext cx="331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igmund Fre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reud ösztönelméle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042920" y="1182600"/>
            <a:ext cx="734400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Freud pszichoszexuális fejlődéselméle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1773000"/>
            <a:ext cx="9144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Orális (0-1 év) - száj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Anális (1-2/3 év) – végbélnyílá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Fallikus (3-5 év) – nemi szerv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LATENCIA (5/6 év – serdülőkor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Genitális (serdülőkor- ) – nemi szerv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Leonardo: Szent Anna harmadmagával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627280" y="1484280"/>
            <a:ext cx="40338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reud ösztöntan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3795840" cy="5184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rcRect l="0" t="5284" r="12151" b="2483"/>
          <a:stretch/>
        </p:blipFill>
        <p:spPr>
          <a:xfrm>
            <a:off x="6084720" y="1413000"/>
            <a:ext cx="2805120" cy="5184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067280" y="2060640"/>
            <a:ext cx="1944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rós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hanatosz 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Cesare Lombroso elmélete (1876)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484360" y="1557360"/>
            <a:ext cx="40514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9640" y="-50760"/>
            <a:ext cx="799308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Urie Bronfenbrenner ökológiai modellj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476360" y="1515960"/>
            <a:ext cx="568944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8:53:18Z</dcterms:created>
  <dc:creator>tanar</dc:creator>
  <dc:description/>
  <dc:language>en-US</dc:language>
  <cp:lastModifiedBy>tanar</cp:lastModifiedBy>
  <dcterms:modified xsi:type="dcterms:W3CDTF">2009-09-07T09:57:04Z</dcterms:modified>
  <cp:revision>5</cp:revision>
  <dc:subject/>
  <dc:title>1. dia</dc:title>
</cp:coreProperties>
</file>